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79F-FA64-49CB-8AD0-AA887C67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592-7996-4A2F-9DA5-182A8D1E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513-5346-4BAD-BC81-EA5890C4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272-B4CC-4C21-844E-5502CBFC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203-A5B0-42F7-9540-278324F1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786-31E8-43F1-A81B-6A3E9EBB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001-22B7-4171-9B91-6143C97A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E63-76B5-44C4-B4B7-B3C80B76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7280" y="274320"/>
            <a:ext cx="5977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428-D1E0-463C-BAF0-9AE2008D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F82-12B0-4A26-AC7F-627B7272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FB0-9C49-4D79-BB21-ADDC6661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92E-57E1-40E9-B875-1620CC5A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E5B4-6C13-4E63-AAC4-B110A7E0B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67640" y="333360"/>
            <a:ext cx="1231920" cy="781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23192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0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 Ecole de poker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Poker Cadillac »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François Montmi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« Poker Harrington » Dan Harrington &amp; Bill Rober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19280" y="2133720"/>
            <a:ext cx="5904000" cy="2950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mise en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is - M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35280" y="2349360"/>
            <a:ext cx="5472000" cy="2519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2781360"/>
            <a:ext cx="576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6560" y="2131920"/>
            <a:ext cx="576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3860640"/>
            <a:ext cx="576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46560" y="2131920"/>
            <a:ext cx="2087640" cy="2952720"/>
            <a:chOff x="5146560" y="2131920"/>
            <a:chExt cx="2087640" cy="2952720"/>
          </a:xfrm>
        </p:grpSpPr>
        <p:sp>
          <p:nvSpPr>
            <p:cNvPr id="78" name=""/>
            <p:cNvSpPr/>
            <p:nvPr/>
          </p:nvSpPr>
          <p:spPr>
            <a:xfrm>
              <a:off x="6657840" y="2781000"/>
              <a:ext cx="576360" cy="57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46560" y="2131920"/>
              <a:ext cx="576360" cy="57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7840" y="3860640"/>
              <a:ext cx="576360" cy="57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46560" y="4508280"/>
              <a:ext cx="576360" cy="57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50920" y="5877000"/>
            <a:ext cx="3313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c 100BB =&gt;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c 18BB =&gt; All In /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156360" y="278136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,5BB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788000" y="2276640"/>
            <a:ext cx="804600" cy="80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2360" y="3645000"/>
            <a:ext cx="804600" cy="80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76720" y="414972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,5BB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348000" y="3357720"/>
            <a:ext cx="2295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>
                    <a:alpha val="50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scap Poker</a:t>
            </a:r>
            <a:endParaRPr b="0" lang="en-US" sz="1800" spc="1" strike="noStrike">
              <a:ln w="0">
                <a:noFill/>
              </a:ln>
              <a:solidFill>
                <a:srgbClr val="336699">
                  <a:alpha val="50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093080" y="2349360"/>
            <a:ext cx="711000" cy="720720"/>
            <a:chOff x="7093080" y="2349360"/>
            <a:chExt cx="711000" cy="7207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7334280" y="234936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7093080" y="234936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5364000" y="4941720"/>
            <a:ext cx="711000" cy="720720"/>
            <a:chOff x="5364000" y="4941720"/>
            <a:chExt cx="711000" cy="72072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5605200" y="494172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5364000" y="494172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1258920" y="4149720"/>
            <a:ext cx="711000" cy="720720"/>
            <a:chOff x="1258920" y="4149720"/>
            <a:chExt cx="711000" cy="720720"/>
          </a:xfrm>
        </p:grpSpPr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1500120" y="414972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1258920" y="414972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1258920" y="2349360"/>
            <a:ext cx="711000" cy="720720"/>
            <a:chOff x="1258920" y="2349360"/>
            <a:chExt cx="711000" cy="720720"/>
          </a:xfrm>
        </p:grpSpPr>
        <p:pic>
          <p:nvPicPr>
            <p:cNvPr id="98" name="" descr=""/>
            <p:cNvPicPr/>
            <p:nvPr/>
          </p:nvPicPr>
          <p:blipFill>
            <a:blip r:embed="rId7"/>
            <a:stretch/>
          </p:blipFill>
          <p:spPr>
            <a:xfrm>
              <a:off x="1500120" y="234936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8"/>
            <a:stretch/>
          </p:blipFill>
          <p:spPr>
            <a:xfrm>
              <a:off x="1258920" y="234936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3276720" y="1484280"/>
            <a:ext cx="711000" cy="720720"/>
            <a:chOff x="3276720" y="1484280"/>
            <a:chExt cx="711000" cy="720720"/>
          </a:xfrm>
        </p:grpSpPr>
        <p:pic>
          <p:nvPicPr>
            <p:cNvPr id="101" name="" descr=""/>
            <p:cNvPicPr/>
            <p:nvPr/>
          </p:nvPicPr>
          <p:blipFill>
            <a:blip r:embed="rId9"/>
            <a:stretch/>
          </p:blipFill>
          <p:spPr>
            <a:xfrm>
              <a:off x="3517920" y="148428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0"/>
            <a:stretch/>
          </p:blipFill>
          <p:spPr>
            <a:xfrm>
              <a:off x="3276720" y="148428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3348000" y="458136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3033720" y="5157720"/>
            <a:ext cx="476280" cy="72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3159000" y="5300640"/>
            <a:ext cx="476280" cy="722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11640" y="5873760"/>
            <a:ext cx="3313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c 100BB =&gt;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c 24BB =&gt;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3"/>
          <a:stretch/>
        </p:blipFill>
        <p:spPr>
          <a:xfrm>
            <a:off x="3781440" y="5157720"/>
            <a:ext cx="476280" cy="72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3924360" y="5300640"/>
            <a:ext cx="476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mise en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-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844720" y="2133720"/>
            <a:ext cx="5904000" cy="2952720"/>
            <a:chOff x="2844720" y="2133720"/>
            <a:chExt cx="5904000" cy="2952720"/>
          </a:xfrm>
        </p:grpSpPr>
        <p:grpSp>
          <p:nvGrpSpPr>
            <p:cNvPr id="112" name=""/>
            <p:cNvGrpSpPr/>
            <p:nvPr/>
          </p:nvGrpSpPr>
          <p:grpSpPr>
            <a:xfrm>
              <a:off x="2844720" y="2133720"/>
              <a:ext cx="5904000" cy="2952720"/>
              <a:chOff x="2844720" y="2133720"/>
              <a:chExt cx="5904000" cy="2952720"/>
            </a:xfrm>
          </p:grpSpPr>
          <p:sp>
            <p:nvSpPr>
              <p:cNvPr id="113" name=""/>
              <p:cNvSpPr/>
              <p:nvPr/>
            </p:nvSpPr>
            <p:spPr>
              <a:xfrm>
                <a:off x="2844720" y="2135520"/>
                <a:ext cx="5904000" cy="2950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60720" y="2351160"/>
                <a:ext cx="5472000" cy="251964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60720" y="2783160"/>
                <a:ext cx="576000" cy="57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572000" y="2133720"/>
                <a:ext cx="576000" cy="57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60720" y="3862440"/>
                <a:ext cx="576000" cy="57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72000" y="4510440"/>
                <a:ext cx="576000" cy="57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372000" y="2133720"/>
                <a:ext cx="2087640" cy="2952720"/>
                <a:chOff x="6372000" y="2133720"/>
                <a:chExt cx="2087640" cy="29527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7883280" y="278280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372000" y="213372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883280" y="386244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72000" y="451008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"/>
            <p:cNvSpPr txBox="1"/>
            <p:nvPr/>
          </p:nvSpPr>
          <p:spPr>
            <a:xfrm>
              <a:off x="4572000" y="3313080"/>
              <a:ext cx="2295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>
                      <a:alpha val="50000"/>
                    </a:srgbClr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Ascap Poker</a:t>
              </a:r>
              <a:endParaRPr b="0" lang="en-US" sz="1800" spc="1" strike="noStrike">
                <a:ln w="0">
                  <a:noFill/>
                </a:ln>
                <a:solidFill>
                  <a:srgbClr val="336699">
                    <a:alpha val="50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556000" y="2206800"/>
            <a:ext cx="711000" cy="720720"/>
            <a:chOff x="2556000" y="2206800"/>
            <a:chExt cx="711000" cy="7207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2797200" y="220680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2556000" y="220680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6516720" y="1486080"/>
            <a:ext cx="711000" cy="720720"/>
            <a:chOff x="6516720" y="1486080"/>
            <a:chExt cx="711000" cy="72072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6757920" y="148608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6516720" y="148608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8317080" y="2351160"/>
            <a:ext cx="711000" cy="720720"/>
            <a:chOff x="8317080" y="2351160"/>
            <a:chExt cx="711000" cy="720720"/>
          </a:xfrm>
        </p:grpSpPr>
        <p:pic>
          <p:nvPicPr>
            <p:cNvPr id="132" name="" descr=""/>
            <p:cNvPicPr/>
            <p:nvPr/>
          </p:nvPicPr>
          <p:blipFill>
            <a:blip r:embed="rId5"/>
            <a:stretch/>
          </p:blipFill>
          <p:spPr>
            <a:xfrm>
              <a:off x="8558280" y="235116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6"/>
            <a:stretch/>
          </p:blipFill>
          <p:spPr>
            <a:xfrm>
              <a:off x="8317080" y="235116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4213080" y="5014800"/>
            <a:ext cx="711000" cy="720720"/>
            <a:chOff x="4213080" y="5014800"/>
            <a:chExt cx="711000" cy="720720"/>
          </a:xfrm>
        </p:grpSpPr>
        <p:pic>
          <p:nvPicPr>
            <p:cNvPr id="135" name="" descr=""/>
            <p:cNvPicPr/>
            <p:nvPr/>
          </p:nvPicPr>
          <p:blipFill>
            <a:blip r:embed="rId7"/>
            <a:stretch/>
          </p:blipFill>
          <p:spPr>
            <a:xfrm>
              <a:off x="4454280" y="501480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8"/>
            <a:stretch/>
          </p:blipFill>
          <p:spPr>
            <a:xfrm>
              <a:off x="4213080" y="501480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6300720" y="5014800"/>
            <a:ext cx="711000" cy="720720"/>
            <a:chOff x="6300720" y="5014800"/>
            <a:chExt cx="711000" cy="720720"/>
          </a:xfrm>
        </p:grpSpPr>
        <p:pic>
          <p:nvPicPr>
            <p:cNvPr id="138" name="" descr=""/>
            <p:cNvPicPr/>
            <p:nvPr/>
          </p:nvPicPr>
          <p:blipFill>
            <a:blip r:embed="rId9"/>
            <a:stretch/>
          </p:blipFill>
          <p:spPr>
            <a:xfrm>
              <a:off x="6541920" y="501480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0"/>
            <a:stretch/>
          </p:blipFill>
          <p:spPr>
            <a:xfrm>
              <a:off x="6300720" y="501480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8245440" y="4294080"/>
            <a:ext cx="711000" cy="720720"/>
            <a:chOff x="8245440" y="4294080"/>
            <a:chExt cx="711000" cy="720720"/>
          </a:xfrm>
        </p:grpSpPr>
        <p:pic>
          <p:nvPicPr>
            <p:cNvPr id="141" name="" descr=""/>
            <p:cNvPicPr/>
            <p:nvPr/>
          </p:nvPicPr>
          <p:blipFill>
            <a:blip r:embed="rId11"/>
            <a:stretch/>
          </p:blipFill>
          <p:spPr>
            <a:xfrm>
              <a:off x="8486640" y="429408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12"/>
            <a:stretch/>
          </p:blipFill>
          <p:spPr>
            <a:xfrm>
              <a:off x="8245440" y="429408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" descr=""/>
          <p:cNvPicPr/>
          <p:nvPr/>
        </p:nvPicPr>
        <p:blipFill>
          <a:blip r:embed="rId13"/>
          <a:stretch/>
        </p:blipFill>
        <p:spPr>
          <a:xfrm>
            <a:off x="468360" y="2360520"/>
            <a:ext cx="690480" cy="933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4"/>
          <a:stretch/>
        </p:blipFill>
        <p:spPr>
          <a:xfrm>
            <a:off x="611280" y="2492280"/>
            <a:ext cx="690480" cy="935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7308720" y="285264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,5BB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940360" y="234792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669080" y="371628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72360" y="4221000"/>
            <a:ext cx="80460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5080" y="407664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BB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284720" y="1341360"/>
            <a:ext cx="663120" cy="863640"/>
            <a:chOff x="4284720" y="1341360"/>
            <a:chExt cx="663120" cy="863640"/>
          </a:xfrm>
        </p:grpSpPr>
        <p:pic>
          <p:nvPicPr>
            <p:cNvPr id="151" name="" descr=""/>
            <p:cNvPicPr/>
            <p:nvPr/>
          </p:nvPicPr>
          <p:blipFill>
            <a:blip r:embed="rId15"/>
            <a:stretch/>
          </p:blipFill>
          <p:spPr>
            <a:xfrm>
              <a:off x="4284720" y="1341360"/>
              <a:ext cx="4759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6"/>
            <a:stretch/>
          </p:blipFill>
          <p:spPr>
            <a:xfrm>
              <a:off x="4471920" y="1484280"/>
              <a:ext cx="47592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2340000" y="3933720"/>
            <a:ext cx="663120" cy="863640"/>
            <a:chOff x="2340000" y="3933720"/>
            <a:chExt cx="663120" cy="863640"/>
          </a:xfrm>
        </p:grpSpPr>
        <p:pic>
          <p:nvPicPr>
            <p:cNvPr id="154" name="" descr=""/>
            <p:cNvPicPr/>
            <p:nvPr/>
          </p:nvPicPr>
          <p:blipFill>
            <a:blip r:embed="rId17"/>
            <a:stretch/>
          </p:blipFill>
          <p:spPr>
            <a:xfrm>
              <a:off x="2340000" y="3933720"/>
              <a:ext cx="4759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8"/>
            <a:stretch/>
          </p:blipFill>
          <p:spPr>
            <a:xfrm>
              <a:off x="2527200" y="4076640"/>
              <a:ext cx="47592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395280" y="5445000"/>
            <a:ext cx="809640" cy="1152720"/>
            <a:chOff x="395280" y="5445000"/>
            <a:chExt cx="809640" cy="1152720"/>
          </a:xfrm>
        </p:grpSpPr>
        <p:pic>
          <p:nvPicPr>
            <p:cNvPr id="157" name="" descr=""/>
            <p:cNvPicPr/>
            <p:nvPr/>
          </p:nvPicPr>
          <p:blipFill>
            <a:blip r:embed="rId19"/>
            <a:stretch/>
          </p:blipFill>
          <p:spPr>
            <a:xfrm>
              <a:off x="395280" y="5445000"/>
              <a:ext cx="66672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0"/>
            <a:stretch/>
          </p:blipFill>
          <p:spPr>
            <a:xfrm>
              <a:off x="538200" y="5587920"/>
              <a:ext cx="666720" cy="100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" descr=""/>
          <p:cNvPicPr/>
          <p:nvPr/>
        </p:nvPicPr>
        <p:blipFill>
          <a:blip r:embed="rId21"/>
          <a:stretch/>
        </p:blipFill>
        <p:spPr>
          <a:xfrm>
            <a:off x="4716360" y="5778360"/>
            <a:ext cx="617760" cy="933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2"/>
          <a:stretch/>
        </p:blipFill>
        <p:spPr>
          <a:xfrm>
            <a:off x="4859280" y="5921280"/>
            <a:ext cx="617760" cy="936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3080" y="3573360"/>
            <a:ext cx="2338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ut être callé en posi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 hors d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5445000"/>
            <a:ext cx="302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m A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des pots 3bet, la cote implicite diminue pour le br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5667480"/>
            <a:ext cx="35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ors de position, raise 100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position on pourrait calle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temps en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348000" y="270828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mise en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- Adver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84360" y="1916280"/>
            <a:ext cx="5904000" cy="2952720"/>
            <a:chOff x="2484360" y="1916280"/>
            <a:chExt cx="5904000" cy="2952720"/>
          </a:xfrm>
        </p:grpSpPr>
        <p:grpSp>
          <p:nvGrpSpPr>
            <p:cNvPr id="168" name=""/>
            <p:cNvGrpSpPr/>
            <p:nvPr/>
          </p:nvGrpSpPr>
          <p:grpSpPr>
            <a:xfrm>
              <a:off x="2484360" y="1916280"/>
              <a:ext cx="5904000" cy="2952720"/>
              <a:chOff x="2484360" y="1916280"/>
              <a:chExt cx="5904000" cy="2952720"/>
            </a:xfrm>
          </p:grpSpPr>
          <p:sp>
            <p:nvSpPr>
              <p:cNvPr id="169" name=""/>
              <p:cNvSpPr/>
              <p:nvPr/>
            </p:nvSpPr>
            <p:spPr>
              <a:xfrm>
                <a:off x="2484360" y="1918080"/>
                <a:ext cx="5904000" cy="2950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00360" y="2133720"/>
                <a:ext cx="5472000" cy="251964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00360" y="2565720"/>
                <a:ext cx="576000" cy="57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11640" y="1916280"/>
                <a:ext cx="576000" cy="57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00360" y="3645000"/>
                <a:ext cx="576000" cy="57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11640" y="4293000"/>
                <a:ext cx="576000" cy="57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6011640" y="1916280"/>
                <a:ext cx="2087640" cy="2952720"/>
                <a:chOff x="6011640" y="1916280"/>
                <a:chExt cx="2087640" cy="2952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522920" y="256536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11640" y="191628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522920" y="364500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11640" y="429264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"/>
            <p:cNvSpPr txBox="1"/>
            <p:nvPr/>
          </p:nvSpPr>
          <p:spPr>
            <a:xfrm>
              <a:off x="4211640" y="3095640"/>
              <a:ext cx="2295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>
                      <a:alpha val="50000"/>
                    </a:srgbClr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Ascap Poker</a:t>
              </a:r>
              <a:endParaRPr b="0" lang="en-US" sz="1800" spc="1" strike="noStrike">
                <a:ln w="0">
                  <a:noFill/>
                </a:ln>
                <a:solidFill>
                  <a:srgbClr val="336699">
                    <a:alpha val="50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780000" y="1341360"/>
            <a:ext cx="711000" cy="720720"/>
            <a:chOff x="3780000" y="1341360"/>
            <a:chExt cx="711000" cy="72072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4021200" y="134136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3780000" y="134136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2195640" y="1989000"/>
            <a:ext cx="711000" cy="720720"/>
            <a:chOff x="2195640" y="1989000"/>
            <a:chExt cx="711000" cy="720720"/>
          </a:xfrm>
        </p:grpSpPr>
        <p:pic>
          <p:nvPicPr>
            <p:cNvPr id="185" name="" descr=""/>
            <p:cNvPicPr/>
            <p:nvPr/>
          </p:nvPicPr>
          <p:blipFill>
            <a:blip r:embed="rId3"/>
            <a:stretch/>
          </p:blipFill>
          <p:spPr>
            <a:xfrm>
              <a:off x="2436840" y="198900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4"/>
            <a:stretch/>
          </p:blipFill>
          <p:spPr>
            <a:xfrm>
              <a:off x="2195640" y="198900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6156360" y="1268280"/>
            <a:ext cx="711000" cy="720720"/>
            <a:chOff x="6156360" y="1268280"/>
            <a:chExt cx="711000" cy="720720"/>
          </a:xfrm>
        </p:grpSpPr>
        <p:pic>
          <p:nvPicPr>
            <p:cNvPr id="188" name="" descr=""/>
            <p:cNvPicPr/>
            <p:nvPr/>
          </p:nvPicPr>
          <p:blipFill>
            <a:blip r:embed="rId5"/>
            <a:stretch/>
          </p:blipFill>
          <p:spPr>
            <a:xfrm>
              <a:off x="6397560" y="126828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6"/>
            <a:stretch/>
          </p:blipFill>
          <p:spPr>
            <a:xfrm>
              <a:off x="6156360" y="126828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7956720" y="2133720"/>
            <a:ext cx="711000" cy="720720"/>
            <a:chOff x="7956720" y="2133720"/>
            <a:chExt cx="711000" cy="72072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8197920" y="213372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8"/>
            <a:stretch/>
          </p:blipFill>
          <p:spPr>
            <a:xfrm>
              <a:off x="7956720" y="213372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2124000" y="4005360"/>
            <a:ext cx="711000" cy="720720"/>
            <a:chOff x="2124000" y="4005360"/>
            <a:chExt cx="711000" cy="720720"/>
          </a:xfrm>
        </p:grpSpPr>
        <p:pic>
          <p:nvPicPr>
            <p:cNvPr id="194" name="" descr=""/>
            <p:cNvPicPr/>
            <p:nvPr/>
          </p:nvPicPr>
          <p:blipFill>
            <a:blip r:embed="rId9"/>
            <a:stretch/>
          </p:blipFill>
          <p:spPr>
            <a:xfrm>
              <a:off x="2365200" y="400536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0"/>
            <a:stretch/>
          </p:blipFill>
          <p:spPr>
            <a:xfrm>
              <a:off x="2124000" y="400536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"/>
          <p:cNvGrpSpPr/>
          <p:nvPr/>
        </p:nvGrpSpPr>
        <p:grpSpPr>
          <a:xfrm>
            <a:off x="5940360" y="4797360"/>
            <a:ext cx="711000" cy="720720"/>
            <a:chOff x="5940360" y="4797360"/>
            <a:chExt cx="711000" cy="720720"/>
          </a:xfrm>
        </p:grpSpPr>
        <p:pic>
          <p:nvPicPr>
            <p:cNvPr id="197" name="" descr=""/>
            <p:cNvPicPr/>
            <p:nvPr/>
          </p:nvPicPr>
          <p:blipFill>
            <a:blip r:embed="rId11"/>
            <a:stretch/>
          </p:blipFill>
          <p:spPr>
            <a:xfrm>
              <a:off x="6181560" y="479736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2"/>
            <a:stretch/>
          </p:blipFill>
          <p:spPr>
            <a:xfrm>
              <a:off x="5940360" y="479736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7885080" y="4076640"/>
            <a:ext cx="711000" cy="720720"/>
            <a:chOff x="7885080" y="4076640"/>
            <a:chExt cx="711000" cy="720720"/>
          </a:xfrm>
        </p:grpSpPr>
        <p:pic>
          <p:nvPicPr>
            <p:cNvPr id="200" name="" descr=""/>
            <p:cNvPicPr/>
            <p:nvPr/>
          </p:nvPicPr>
          <p:blipFill>
            <a:blip r:embed="rId13"/>
            <a:stretch/>
          </p:blipFill>
          <p:spPr>
            <a:xfrm>
              <a:off x="8126280" y="407664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4"/>
            <a:stretch/>
          </p:blipFill>
          <p:spPr>
            <a:xfrm>
              <a:off x="7885080" y="407664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" descr=""/>
          <p:cNvPicPr/>
          <p:nvPr/>
        </p:nvPicPr>
        <p:blipFill>
          <a:blip r:embed="rId15"/>
          <a:stretch/>
        </p:blipFill>
        <p:spPr>
          <a:xfrm>
            <a:off x="395280" y="5529240"/>
            <a:ext cx="620640" cy="933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6"/>
          <a:stretch/>
        </p:blipFill>
        <p:spPr>
          <a:xfrm>
            <a:off x="566640" y="5661000"/>
            <a:ext cx="620640" cy="93492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4068720" y="4867200"/>
            <a:ext cx="663120" cy="863640"/>
            <a:chOff x="4068720" y="4867200"/>
            <a:chExt cx="663120" cy="863640"/>
          </a:xfrm>
        </p:grpSpPr>
        <p:pic>
          <p:nvPicPr>
            <p:cNvPr id="205" name="" descr=""/>
            <p:cNvPicPr/>
            <p:nvPr/>
          </p:nvPicPr>
          <p:blipFill>
            <a:blip r:embed="rId17"/>
            <a:stretch/>
          </p:blipFill>
          <p:spPr>
            <a:xfrm>
              <a:off x="4068720" y="4867200"/>
              <a:ext cx="4759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8"/>
            <a:stretch/>
          </p:blipFill>
          <p:spPr>
            <a:xfrm>
              <a:off x="4255920" y="5010120"/>
              <a:ext cx="47592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"/>
          <p:cNvSpPr txBox="1"/>
          <p:nvPr/>
        </p:nvSpPr>
        <p:spPr>
          <a:xfrm>
            <a:off x="5580000" y="206064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,5BB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093080" y="2637000"/>
            <a:ext cx="804600" cy="80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237440" y="342900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940360" y="393372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9"/>
          <a:stretch/>
        </p:blipFill>
        <p:spPr>
          <a:xfrm>
            <a:off x="4141800" y="5518080"/>
            <a:ext cx="601560" cy="911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0"/>
          <a:stretch/>
        </p:blipFill>
        <p:spPr>
          <a:xfrm>
            <a:off x="4284720" y="5661000"/>
            <a:ext cx="601560" cy="911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258920" y="5589720"/>
            <a:ext cx="252108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e un agressif : on peut envisager le  call (pour ne pas lui redonner la par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e un passif : le raise est plus év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5734080"/>
            <a:ext cx="3744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e un serré : le fold n’est pas mo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e un large : on peut envisager le call, avce une préférence pour le raise s’il est pass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mise en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is -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771640" y="1916280"/>
            <a:ext cx="5904000" cy="2952720"/>
            <a:chOff x="2771640" y="1916280"/>
            <a:chExt cx="5904000" cy="2952720"/>
          </a:xfrm>
        </p:grpSpPr>
        <p:grpSp>
          <p:nvGrpSpPr>
            <p:cNvPr id="218" name=""/>
            <p:cNvGrpSpPr/>
            <p:nvPr/>
          </p:nvGrpSpPr>
          <p:grpSpPr>
            <a:xfrm>
              <a:off x="2771640" y="1916280"/>
              <a:ext cx="5904000" cy="2952720"/>
              <a:chOff x="2771640" y="1916280"/>
              <a:chExt cx="5904000" cy="2952720"/>
            </a:xfrm>
          </p:grpSpPr>
          <p:sp>
            <p:nvSpPr>
              <p:cNvPr id="219" name=""/>
              <p:cNvSpPr/>
              <p:nvPr/>
            </p:nvSpPr>
            <p:spPr>
              <a:xfrm>
                <a:off x="2771640" y="1918080"/>
                <a:ext cx="5904000" cy="2950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87640" y="2133720"/>
                <a:ext cx="5472000" cy="251964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987640" y="2565720"/>
                <a:ext cx="576000" cy="57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98920" y="1916280"/>
                <a:ext cx="576000" cy="57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87640" y="3645000"/>
                <a:ext cx="576000" cy="57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498920" y="4293000"/>
                <a:ext cx="576000" cy="57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6298920" y="1916280"/>
                <a:ext cx="2087640" cy="2952720"/>
                <a:chOff x="6298920" y="1916280"/>
                <a:chExt cx="2087640" cy="29527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810200" y="256536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298920" y="191628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10200" y="364500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298920" y="429264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"/>
            <p:cNvSpPr txBox="1"/>
            <p:nvPr/>
          </p:nvSpPr>
          <p:spPr>
            <a:xfrm>
              <a:off x="4498920" y="3095640"/>
              <a:ext cx="2295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>
                      <a:alpha val="50000"/>
                    </a:srgbClr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Ascap Poker</a:t>
              </a:r>
              <a:endParaRPr b="0" lang="en-US" sz="1800" spc="1" strike="noStrike">
                <a:ln w="0">
                  <a:noFill/>
                </a:ln>
                <a:solidFill>
                  <a:srgbClr val="336699">
                    <a:alpha val="50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443640" y="1268280"/>
            <a:ext cx="711000" cy="720720"/>
            <a:chOff x="6443640" y="1268280"/>
            <a:chExt cx="711000" cy="72072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6684840" y="126828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6443640" y="126828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8244000" y="2133720"/>
            <a:ext cx="711000" cy="720720"/>
            <a:chOff x="8244000" y="2133720"/>
            <a:chExt cx="711000" cy="720720"/>
          </a:xfrm>
        </p:grpSpPr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8485200" y="213372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244000" y="213372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2411280" y="4005360"/>
            <a:ext cx="711000" cy="720720"/>
            <a:chOff x="2411280" y="4005360"/>
            <a:chExt cx="711000" cy="720720"/>
          </a:xfrm>
        </p:grpSpPr>
        <p:pic>
          <p:nvPicPr>
            <p:cNvPr id="238" name="" descr=""/>
            <p:cNvPicPr/>
            <p:nvPr/>
          </p:nvPicPr>
          <p:blipFill>
            <a:blip r:embed="rId5"/>
            <a:stretch/>
          </p:blipFill>
          <p:spPr>
            <a:xfrm>
              <a:off x="2652480" y="400536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6"/>
            <a:stretch/>
          </p:blipFill>
          <p:spPr>
            <a:xfrm>
              <a:off x="2411280" y="400536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4140360" y="4797360"/>
            <a:ext cx="711000" cy="720720"/>
            <a:chOff x="4140360" y="4797360"/>
            <a:chExt cx="711000" cy="720720"/>
          </a:xfrm>
        </p:grpSpPr>
        <p:pic>
          <p:nvPicPr>
            <p:cNvPr id="241" name="" descr=""/>
            <p:cNvPicPr/>
            <p:nvPr/>
          </p:nvPicPr>
          <p:blipFill>
            <a:blip r:embed="rId7"/>
            <a:stretch/>
          </p:blipFill>
          <p:spPr>
            <a:xfrm>
              <a:off x="4381560" y="479736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8"/>
            <a:stretch/>
          </p:blipFill>
          <p:spPr>
            <a:xfrm>
              <a:off x="4140360" y="479736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6227640" y="4797360"/>
            <a:ext cx="711000" cy="720720"/>
            <a:chOff x="6227640" y="4797360"/>
            <a:chExt cx="711000" cy="720720"/>
          </a:xfrm>
        </p:grpSpPr>
        <p:pic>
          <p:nvPicPr>
            <p:cNvPr id="244" name="" descr=""/>
            <p:cNvPicPr/>
            <p:nvPr/>
          </p:nvPicPr>
          <p:blipFill>
            <a:blip r:embed="rId9"/>
            <a:stretch/>
          </p:blipFill>
          <p:spPr>
            <a:xfrm>
              <a:off x="6468840" y="479736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10"/>
            <a:stretch/>
          </p:blipFill>
          <p:spPr>
            <a:xfrm>
              <a:off x="6227640" y="479736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8172360" y="4076640"/>
            <a:ext cx="711000" cy="720720"/>
            <a:chOff x="8172360" y="4076640"/>
            <a:chExt cx="711000" cy="720720"/>
          </a:xfrm>
        </p:grpSpPr>
        <p:pic>
          <p:nvPicPr>
            <p:cNvPr id="247" name="" descr=""/>
            <p:cNvPicPr/>
            <p:nvPr/>
          </p:nvPicPr>
          <p:blipFill>
            <a:blip r:embed="rId11"/>
            <a:stretch/>
          </p:blipFill>
          <p:spPr>
            <a:xfrm>
              <a:off x="8413560" y="407664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2"/>
            <a:stretch/>
          </p:blipFill>
          <p:spPr>
            <a:xfrm>
              <a:off x="8172360" y="407664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"/>
          <p:cNvGrpSpPr/>
          <p:nvPr/>
        </p:nvGrpSpPr>
        <p:grpSpPr>
          <a:xfrm>
            <a:off x="2482920" y="1916280"/>
            <a:ext cx="663120" cy="862920"/>
            <a:chOff x="2482920" y="1916280"/>
            <a:chExt cx="663120" cy="862920"/>
          </a:xfrm>
        </p:grpSpPr>
        <p:pic>
          <p:nvPicPr>
            <p:cNvPr id="250" name="" descr=""/>
            <p:cNvPicPr/>
            <p:nvPr/>
          </p:nvPicPr>
          <p:blipFill>
            <a:blip r:embed="rId13"/>
            <a:stretch/>
          </p:blipFill>
          <p:spPr>
            <a:xfrm>
              <a:off x="2482920" y="1916280"/>
              <a:ext cx="47592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14"/>
            <a:stretch/>
          </p:blipFill>
          <p:spPr>
            <a:xfrm>
              <a:off x="2670120" y="2058840"/>
              <a:ext cx="475920" cy="72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468360" y="1844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is effectif = Mini des 2 t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5445000"/>
            <a:ext cx="820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B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pis effectif = 7BB et tapis adv. &lt; +/-50BB, All in presque au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apis effectif = 15BB, si SB raise 2-3BB, Push or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140360" y="1197000"/>
            <a:ext cx="663120" cy="863640"/>
            <a:chOff x="4140360" y="1197000"/>
            <a:chExt cx="663120" cy="863640"/>
          </a:xfrm>
        </p:grpSpPr>
        <p:pic>
          <p:nvPicPr>
            <p:cNvPr id="255" name="" descr=""/>
            <p:cNvPicPr/>
            <p:nvPr/>
          </p:nvPicPr>
          <p:blipFill>
            <a:blip r:embed="rId15"/>
            <a:stretch/>
          </p:blipFill>
          <p:spPr>
            <a:xfrm>
              <a:off x="4140360" y="1197000"/>
              <a:ext cx="4759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6"/>
            <a:stretch/>
          </p:blipFill>
          <p:spPr>
            <a:xfrm>
              <a:off x="4327560" y="1339920"/>
              <a:ext cx="47592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 txBox="1"/>
          <p:nvPr/>
        </p:nvSpPr>
        <p:spPr>
          <a:xfrm>
            <a:off x="7453440" y="2492280"/>
            <a:ext cx="80460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597800" y="3284640"/>
            <a:ext cx="804960" cy="80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300720" y="378936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84720" y="184464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0" y="393372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132000" y="342900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mise en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ire -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960640" y="2133720"/>
            <a:ext cx="5904000" cy="2952720"/>
            <a:chOff x="2960640" y="2133720"/>
            <a:chExt cx="5904000" cy="2952720"/>
          </a:xfrm>
        </p:grpSpPr>
        <p:grpSp>
          <p:nvGrpSpPr>
            <p:cNvPr id="266" name=""/>
            <p:cNvGrpSpPr/>
            <p:nvPr/>
          </p:nvGrpSpPr>
          <p:grpSpPr>
            <a:xfrm>
              <a:off x="2960640" y="2133720"/>
              <a:ext cx="5904000" cy="2952720"/>
              <a:chOff x="2960640" y="2133720"/>
              <a:chExt cx="5904000" cy="2952720"/>
            </a:xfrm>
          </p:grpSpPr>
          <p:sp>
            <p:nvSpPr>
              <p:cNvPr id="267" name=""/>
              <p:cNvSpPr/>
              <p:nvPr/>
            </p:nvSpPr>
            <p:spPr>
              <a:xfrm>
                <a:off x="2960640" y="2135520"/>
                <a:ext cx="5904000" cy="2950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176640" y="2351160"/>
                <a:ext cx="5472000" cy="251964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76640" y="2783160"/>
                <a:ext cx="576000" cy="57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87920" y="2133720"/>
                <a:ext cx="576000" cy="57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76640" y="3862440"/>
                <a:ext cx="576000" cy="57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87920" y="4510440"/>
                <a:ext cx="576000" cy="57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87920" y="2133720"/>
                <a:ext cx="2087640" cy="2952720"/>
                <a:chOff x="6487920" y="2133720"/>
                <a:chExt cx="2087640" cy="29527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999200" y="278280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487920" y="213372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999200" y="386244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487920" y="4510080"/>
                  <a:ext cx="576360" cy="57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8" name=""/>
            <p:cNvSpPr txBox="1"/>
            <p:nvPr/>
          </p:nvSpPr>
          <p:spPr>
            <a:xfrm>
              <a:off x="4687920" y="3313080"/>
              <a:ext cx="2295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>
                      <a:alpha val="50000"/>
                    </a:srgbClr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Ascap Poker</a:t>
              </a:r>
              <a:endParaRPr b="0" lang="en-US" sz="1800" spc="1" strike="noStrike">
                <a:ln w="0">
                  <a:noFill/>
                </a:ln>
                <a:solidFill>
                  <a:srgbClr val="336699">
                    <a:alpha val="50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255920" y="1558800"/>
            <a:ext cx="711000" cy="720720"/>
            <a:chOff x="4255920" y="1558800"/>
            <a:chExt cx="711000" cy="72072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4497120" y="155880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4255920" y="155880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6632640" y="1486080"/>
            <a:ext cx="711000" cy="720720"/>
            <a:chOff x="6632640" y="1486080"/>
            <a:chExt cx="711000" cy="720720"/>
          </a:xfrm>
        </p:grpSpPr>
        <p:pic>
          <p:nvPicPr>
            <p:cNvPr id="283" name="" descr=""/>
            <p:cNvPicPr/>
            <p:nvPr/>
          </p:nvPicPr>
          <p:blipFill>
            <a:blip r:embed="rId3"/>
            <a:stretch/>
          </p:blipFill>
          <p:spPr>
            <a:xfrm>
              <a:off x="6873840" y="148608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4"/>
            <a:stretch/>
          </p:blipFill>
          <p:spPr>
            <a:xfrm>
              <a:off x="6632640" y="148608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8432640" y="2351160"/>
            <a:ext cx="711000" cy="720720"/>
            <a:chOff x="8432640" y="2351160"/>
            <a:chExt cx="711000" cy="720720"/>
          </a:xfrm>
        </p:grpSpPr>
        <p:pic>
          <p:nvPicPr>
            <p:cNvPr id="286" name="" descr=""/>
            <p:cNvPicPr/>
            <p:nvPr/>
          </p:nvPicPr>
          <p:blipFill>
            <a:blip r:embed="rId5"/>
            <a:stretch/>
          </p:blipFill>
          <p:spPr>
            <a:xfrm>
              <a:off x="8673840" y="235116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6"/>
            <a:stretch/>
          </p:blipFill>
          <p:spPr>
            <a:xfrm>
              <a:off x="8432640" y="235116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4329000" y="5014800"/>
            <a:ext cx="711000" cy="720720"/>
            <a:chOff x="4329000" y="5014800"/>
            <a:chExt cx="711000" cy="720720"/>
          </a:xfrm>
        </p:grpSpPr>
        <p:pic>
          <p:nvPicPr>
            <p:cNvPr id="289" name="" descr=""/>
            <p:cNvPicPr/>
            <p:nvPr/>
          </p:nvPicPr>
          <p:blipFill>
            <a:blip r:embed="rId7"/>
            <a:stretch/>
          </p:blipFill>
          <p:spPr>
            <a:xfrm>
              <a:off x="4570200" y="501480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8"/>
            <a:stretch/>
          </p:blipFill>
          <p:spPr>
            <a:xfrm>
              <a:off x="4329000" y="501480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"/>
          <p:cNvGrpSpPr/>
          <p:nvPr/>
        </p:nvGrpSpPr>
        <p:grpSpPr>
          <a:xfrm>
            <a:off x="6416640" y="5014800"/>
            <a:ext cx="711000" cy="720720"/>
            <a:chOff x="6416640" y="5014800"/>
            <a:chExt cx="711000" cy="720720"/>
          </a:xfrm>
        </p:grpSpPr>
        <p:pic>
          <p:nvPicPr>
            <p:cNvPr id="292" name="" descr=""/>
            <p:cNvPicPr/>
            <p:nvPr/>
          </p:nvPicPr>
          <p:blipFill>
            <a:blip r:embed="rId9"/>
            <a:stretch/>
          </p:blipFill>
          <p:spPr>
            <a:xfrm>
              <a:off x="6657840" y="501480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10"/>
            <a:stretch/>
          </p:blipFill>
          <p:spPr>
            <a:xfrm>
              <a:off x="6416640" y="501480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"/>
          <p:cNvGrpSpPr/>
          <p:nvPr/>
        </p:nvGrpSpPr>
        <p:grpSpPr>
          <a:xfrm>
            <a:off x="8361360" y="4294080"/>
            <a:ext cx="711000" cy="720720"/>
            <a:chOff x="8361360" y="4294080"/>
            <a:chExt cx="711000" cy="720720"/>
          </a:xfrm>
        </p:grpSpPr>
        <p:pic>
          <p:nvPicPr>
            <p:cNvPr id="295" name="" descr=""/>
            <p:cNvPicPr/>
            <p:nvPr/>
          </p:nvPicPr>
          <p:blipFill>
            <a:blip r:embed="rId11"/>
            <a:stretch/>
          </p:blipFill>
          <p:spPr>
            <a:xfrm>
              <a:off x="8602560" y="4294080"/>
              <a:ext cx="469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2"/>
            <a:stretch/>
          </p:blipFill>
          <p:spPr>
            <a:xfrm>
              <a:off x="8361360" y="4294080"/>
              <a:ext cx="47628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"/>
          <p:cNvSpPr txBox="1"/>
          <p:nvPr/>
        </p:nvSpPr>
        <p:spPr>
          <a:xfrm>
            <a:off x="7569360" y="2925720"/>
            <a:ext cx="80460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200640" y="2278080"/>
            <a:ext cx="8049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BB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761000" y="4078440"/>
            <a:ext cx="804600" cy="80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BB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40640" y="3718080"/>
            <a:ext cx="804960" cy="80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489720" y="4078440"/>
            <a:ext cx="804960" cy="80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F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671920" y="4151160"/>
            <a:ext cx="663120" cy="863640"/>
            <a:chOff x="2671920" y="4151160"/>
            <a:chExt cx="663120" cy="863640"/>
          </a:xfrm>
        </p:grpSpPr>
        <p:pic>
          <p:nvPicPr>
            <p:cNvPr id="303" name="" descr=""/>
            <p:cNvPicPr/>
            <p:nvPr/>
          </p:nvPicPr>
          <p:blipFill>
            <a:blip r:embed="rId13"/>
            <a:stretch/>
          </p:blipFill>
          <p:spPr>
            <a:xfrm>
              <a:off x="2671920" y="4151160"/>
              <a:ext cx="4759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14"/>
            <a:stretch/>
          </p:blipFill>
          <p:spPr>
            <a:xfrm>
              <a:off x="2859120" y="4294080"/>
              <a:ext cx="47592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"/>
          <p:cNvGrpSpPr/>
          <p:nvPr/>
        </p:nvGrpSpPr>
        <p:grpSpPr>
          <a:xfrm>
            <a:off x="2600280" y="2062080"/>
            <a:ext cx="663120" cy="863640"/>
            <a:chOff x="2600280" y="2062080"/>
            <a:chExt cx="663120" cy="863640"/>
          </a:xfrm>
        </p:grpSpPr>
        <p:pic>
          <p:nvPicPr>
            <p:cNvPr id="306" name="" descr=""/>
            <p:cNvPicPr/>
            <p:nvPr/>
          </p:nvPicPr>
          <p:blipFill>
            <a:blip r:embed="rId15"/>
            <a:stretch/>
          </p:blipFill>
          <p:spPr>
            <a:xfrm>
              <a:off x="2600280" y="2062080"/>
              <a:ext cx="4759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16"/>
            <a:stretch/>
          </p:blipFill>
          <p:spPr>
            <a:xfrm>
              <a:off x="2787480" y="2205000"/>
              <a:ext cx="47592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"/>
          <p:cNvSpPr/>
          <p:nvPr/>
        </p:nvSpPr>
        <p:spPr>
          <a:xfrm>
            <a:off x="250920" y="2421000"/>
            <a:ext cx="2665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B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B large agressif: serrez la range d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B serré passif :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nge de call plus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B/BB large agro :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s de call si fold sur r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B/BB serré passif :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nge de call plus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r fin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’autres facteurs vont venir s’ajouter à la prise de décis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tructure (rapide, l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type de partie (Cash, MTT, qualifier, S&amp;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tructure de paiement (ICM pour le MTT et le S&amp;G, l’EV pour le Cash g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4 facteurs de dé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. 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.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.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. Adver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. Mise en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4000" y="4941720"/>
            <a:ext cx="8570520" cy="1513080"/>
            <a:chOff x="324000" y="4941720"/>
            <a:chExt cx="8570520" cy="1513080"/>
          </a:xfrm>
        </p:grpSpPr>
        <p:sp>
          <p:nvSpPr>
            <p:cNvPr id="48" name=""/>
            <p:cNvSpPr/>
            <p:nvPr/>
          </p:nvSpPr>
          <p:spPr>
            <a:xfrm>
              <a:off x="324000" y="5734080"/>
              <a:ext cx="763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97440" y="515772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4000" y="494172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artes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Position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Tap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8360" y="4941720"/>
              <a:ext cx="22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versai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640" y="5950080"/>
              <a:ext cx="51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riable factue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13440" y="5950080"/>
              <a:ext cx="28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riable d’ajust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trio-infernal (2%): AA, KK, AK, à jouer fortement pré-fl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K n’est pas une main faite à ne pas sur-jouer/sous-jouer pré-f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s fortes (7%) : JJ, QQ, AQ, AJ, KQ, KJ, JQ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J : une carte supérieur au flop +1/2, QQ : une carte supérieur au flop -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Q, AJ, KQ, KJ, JQ : mains dominées, AK contre AQ avec A au flo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tites paires 22 à TT (4%): brelan dans 12% des flops : A pot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jouer en fonction des autres fa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Ma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 tirages à couleur (6%) : A8s, A3s, K7s, K9s, etc. A pot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s délicates à jouer post-flop, on ne les jouent pas pour la top pai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écutives assorties (2%) : 78s, 9Ts A pot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ès difficile à jouer post-flop, on cherche au minimum 2 p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(79%): Les poubell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les sont jouées c’est pour d’autres raisons que la valeur de la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positio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but de parole :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lieu de parole :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 de parole :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B &amp; BB :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age&amp;influence de la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us connaissez les actions de vos advers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vol de blinds a plus de chance de marc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eut élargir son jeu au fur et à mesure que l’on s’approche du bouton &amp; inve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ttention au call dans les blinds même « pour la cote » (préférer une main à potentiel plutôt qu’un As ou un roi mal accompagn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t considérer le plus petit tapis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ant d’entrer dans un coup, vous devez connaitre les stacks des advers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dicateur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 = Tapis / (SB + BB + ante x Nbr de joueur à la 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&gt;20 : aucune 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&gt;M&gt;10 : surveillez les opportunités de vol de 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&gt;M&gt;6 : cibler attaques avec une main raison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6&gt;M&gt;3 : all-in pré-flop pour dou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&lt;3 : sur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apis moye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t se situer en fonction du tapis moyen surtout si votre M est fa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fluence sur le jeu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mains à potentiel ne sont plus jouable sans profond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tits tapis après vous: il peuvent envoyer avec la première mains jouable =&gt; resserrez le jeu, « si le short stack part à tapis, est ce que je le paye ?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orsque l’on joue un coup, il faut imaginer ou ce coup va nous emmener : combien il va nous coûter, combien il va nous rester (zone de 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Adversa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z vos adversair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f/agressif, large/ser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l est leur niveau de réflex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32360" y="2133720"/>
            <a:ext cx="331164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4365720"/>
            <a:ext cx="619128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Adversa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aptez votre jeu au profil de votre advers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ouez UN niveau au dessus de votre adversaire et pas 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server continuellement vos adversaires et ajuster votre « profiling »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z plus d’importance à votre observation lorsque vous voyez la mains advers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servez en priorité les adversaires à côté de vous, ce sont ceux contre qui vous jouerez les coups les plus complexes (bataille de bli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22:15:25Z</dcterms:created>
  <dc:creator>anne &amp; guillaume</dc:creator>
  <dc:description/>
  <dc:language>en-US</dc:language>
  <cp:lastModifiedBy>anne &amp; guillaume</cp:lastModifiedBy>
  <dcterms:modified xsi:type="dcterms:W3CDTF">2012-05-03T17:26:04Z</dcterms:modified>
  <cp:revision>34</cp:revision>
  <dc:subject/>
  <dc:title>« Ecole de poker »</dc:title>
</cp:coreProperties>
</file>